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14E-7D86-40A5-A43B-48F7CEC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D75-60EE-4264-9C1B-A5B3A1F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102DC-0EBF-44E1-A58C-60C6C60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71913-4185-4C29-91F3-905402C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6E693-1BC4-4C35-A59C-75C00168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94F4-1297-4A8C-BB92-1D9DA1C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DC7DB-443D-4D87-9EB1-742EBA2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73EA2-7F41-4476-90E3-836D470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0D49-94A6-42B7-9D28-96BAECF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BD0B2-2BFC-4147-802C-DC329A8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C2C9A-C9EF-4680-AA74-65D9739C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9740-4D80-4C5B-A4E4-226667E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E5F-09B4-45DE-9EF5-82104E33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BE3FD-0112-494F-9574-86A26D2F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76F7-CFC3-40F8-B152-C2DCBDA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875D-1A14-4F4B-A6D7-BCD7009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C8E66-1544-4850-9ECB-20E51CBA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80BD-F77C-4E3F-873B-1DF4A777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A5203-D89C-43A9-8F4A-C2F428C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8D4DB-A320-4CB4-810D-D12BAC6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C121F-7B06-48A5-A8EA-1F29048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17349-3FE3-4EEB-81CB-AC3901E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54D62-E309-4F94-A07A-B64BE36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F5C-34E0-4886-B97F-397461A0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DD681-4258-45D5-ABB5-8BAF4B1F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2FD85B-5299-41FF-933D-9C46404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6368AD-1F37-47F8-984D-5F68718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78862E-CF1F-45FD-A1F3-C81F4B8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3C2BD-E079-41DD-8A86-27C0B3D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B1674B-B046-4B87-9E83-99061855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99CD5D-425A-45C1-BB1E-1F2D6CA7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235AD6-1A58-4F4E-9CF6-D23217E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839AE-D32E-49F2-9E85-CBCE72B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97E362-2287-4791-9F92-C869D1F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8A41-C1A0-4921-9726-A9A5BF4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34B0A2-F259-4D0F-96E3-0BD3671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62152-57A8-465E-A67C-9BEC8F36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AE5C1-4D1F-4542-82B4-AA932EE9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27DA3-84CE-4CC3-BED2-62E63C37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D0DED-EC3F-4893-9792-3176D49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D5477-E05E-46BD-9A43-1F14266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5F503-ACEA-46B3-8143-A452076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FA435-0BD9-4895-ABA8-EBFC724F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7E6C9-DB65-4D24-B869-1EA504A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3BDAA-1965-4441-BDDA-8D42812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5537-669D-49FC-B68A-AAC80EC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04B4F-6CFD-4022-A396-5E24835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0612B-0241-4D9C-8A99-4D60C2F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1ECB4-DEF9-4C58-91EE-706885F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71BE3-83D8-408E-AC04-3C36C2FF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A6F67-2AAC-4087-B6CB-9FFA86F8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423E49-8B55-48E1-90C2-2C38194C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7F1C55-5C55-40E0-B438-AA84D020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236C05-727E-4BB0-B23F-871C5B9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B9D4F-E287-4566-B89C-31BDE5E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9E23F-145D-4EA3-AF1E-AE67D5B5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439E-61EE-4D78-8EC0-5C33C02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2D198-5444-403C-935D-51FCCFC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00FEB7-78F8-40F3-ACBA-BB13AD7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F5879-6CFC-415F-BFA8-64B24DB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968806-3A42-44AF-BE47-2F29373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DA04F-B476-4A9E-8845-D0CB30E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47927-197B-431E-BEC2-0A282641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9BCE4-BC11-4B0A-B6DB-6B2646C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76893-4DA6-41B4-8126-98986FC2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8D80C-A208-4A08-9CAF-2702AE99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015E1-DF03-4EA8-934A-18390C43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43A5-E697-4CD5-BCA1-78BBF9A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D23E9-FDFF-4A32-A27E-574834F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18763-6DFF-4026-8842-E72FBD0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910EC-9009-4B26-83F5-E55DF42E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ACF0A-7998-4EF0-B47A-3550022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D60DD-46CC-4101-A938-228D096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3A3CE-7433-4C57-B70B-820627D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C39F5-3735-4AAD-A932-686F56E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304B1-5FC6-4D72-A332-E15E146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40B4E-A57D-4947-A234-0480A820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89CE7-1456-45BB-BF5E-0A568299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1C8D-41D4-4B4B-AFF0-61337D0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98F64-E6A9-45EF-9557-743342C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9FFBD-746D-45A4-9590-C0A8E2E6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8E1EA-593D-4CC9-BA64-E52EBD06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76562-32DB-468D-843D-DD88A6BB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1F853-BDFD-47FC-8F4E-94BF1958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C7BC0-B77D-4CCC-B5F1-6F7716E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EED12-187A-4BBE-B340-3BCAA5CB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91D07-401D-4C64-89B8-EAEBD15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A4D8F-BC9C-43E8-B23A-8D518DD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129B7-5BBD-4458-A664-5DB35759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B71C-2836-43EF-8CC7-48906E9E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ADD89-444D-48A1-B1AD-250D93F6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18033-F412-4FE3-9990-2922AD5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1D261-384B-4C92-BD89-5962924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E7495-13F6-45D1-BF21-293BB6F8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41A47-E92D-49F8-8C81-D35B857B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D4C9B-0A49-4BED-902F-C9CF1AD6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32CDE-E810-4019-8507-60B30BBE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8AF1E-72BD-457C-BFF9-2D66B47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2A1F9-728F-4972-B375-7B8C1D0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5D162-47E7-4018-8D3B-70A0E17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16DA-8996-42E2-8CD9-9BB0254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323A8-A96B-4E54-A99B-300A995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D7E0D-0E26-40B3-B9C7-DF3E773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BA0CE-28D0-415B-9409-424460EC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21F316-E237-4202-B885-9A6BD321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2944F4-5FB8-426D-8A51-18D0DE16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3277BD-FF62-40A0-AEC5-B5663D34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F55D35-7E72-4812-AF0F-65F5F0D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5F596D-8FCF-4459-9A96-91FFAA05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5D77A4-A7A7-4226-A95F-C596A22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805BBA-BC36-4EE5-A9D6-CB79F93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3DC-4973-4990-A3D1-1A3FC446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8F2-6D6D-4D42-BE95-AF35255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91C738-1BED-4D3D-AEEE-B7738CFA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9A0B35-09B6-42E7-8E01-5CF0756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749666-F5A0-4765-BA24-3D5AE37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5FA969-20D2-4831-A8D2-1367D272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094EC0-57CF-49A5-AA47-319400B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50EED9-3613-44C3-9C8A-9B292ABE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3A6D8C-5384-4C0C-B82F-679307C3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506942-917B-447D-8896-044F999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8F9838-0704-4D4A-AF23-1EAC3C2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9801C7-2F97-4169-84C2-16F89BC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C97F-FDE9-41A4-860D-37AD622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D73AD1-DC61-40F1-8023-F83006A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D2114F-EBDE-4B90-93E4-2BC90D4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60451E-0CCF-473E-AEB6-AFA4ABE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038430-22F0-42BC-93B3-9D62724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6FEF3D-E36E-4726-9FBE-E061EE9E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B5814F-2470-457F-8C5F-F9BCF57F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93EEF4-B089-4000-AE1D-B759B0C1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A1399-3322-4602-966E-CDB0E2F0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F517A-8D66-412A-8046-6C03E0E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6AD4C-2C39-4461-947D-3428B254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467-4AF1-4C3B-AECB-0A722482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CC7FC-68AC-42D4-96DB-25E9AF2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ED991-0E9B-40A3-9A5D-4FE8395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39CF2-09ED-477A-AA0F-0BFD914F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2C6B3-3744-4EF0-9D77-62649C6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57690-ED30-46F6-B310-E5F6537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1FA78-4088-47F9-80E8-CABD52E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80D39-962C-4416-9392-D2C3845E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A9E6D-0F81-4BBB-A4EE-A939631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7D09C-A332-4986-AC4B-5DEDCCDA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43091E-4B11-430E-A51B-FAD60E0B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67A1-6DBF-4D4A-B1CE-094B1BB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E90218-2159-4694-A5C4-43E6CE5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6C1D93-2CFE-479E-ADB1-E97A227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308020-9DBF-4C06-8562-8E6E435A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8C5AC64-7894-48A4-8C81-82288CA0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9DDB2C-0B1F-4548-B0BC-FC07489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70A6FA-AAF7-4F47-BA6A-5F0EBBD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08BA8C-3507-46D3-AA4E-3468BD73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B2F742-D59F-41E5-B333-0657771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33B7EF-0472-41FE-BD5E-DD07D22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1C7A76-B2B2-4975-8C72-DE06DFC1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E76-F303-4269-821B-3EB25E9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823F34-9664-4FA7-8471-ABF5120B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23F55-2A42-455C-B2D2-6A052714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8BF876-7CB1-4997-9B6F-C187266C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44D5D-040C-45B6-ACCE-93D6210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3C329C-6CD0-4675-B313-0670B605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34544-8F50-400D-B86B-5D7BDDA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3EE74-A0CE-499C-AE67-1499BC5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30CCA-9FD1-44E9-9D69-DDE87BE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BEB35-2E6C-4687-8B18-310A1B3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8CC58-F738-4FED-B36F-4F7A731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8C20-5954-46D3-A633-600D5BDA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11DA0-1BB7-48C5-894B-4FC67EF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CDA63-CA22-4BDA-9CDD-A1ACF782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CA781-EA63-40B6-AEED-5B4E7E2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4C746-A888-447C-9195-550E39E5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DD790E-C34B-4253-A3FC-492B637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FFB11F-C42D-46BF-BFA2-5760909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0F42A-81D0-47A5-818D-01E2DE32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A6D54-BCAB-4D0B-A246-F773354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D596B-133F-41CD-8B9E-54447F5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69653-1900-4C0D-923E-830D8A1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F9C1-8C4B-43D3-AF8D-E0215F73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23907A-43CF-46C4-8576-285D559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7FA30-2043-41DD-8B3E-9F29851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759B6-676D-4D57-A65F-929E91DC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CC72D9-A835-4355-B79F-1F0A07A9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E4E98-D8B3-474F-A0CB-C5EA30A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28AEB-DC6A-4A1E-97BF-23F2766C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65D6B-DD31-4C08-99CC-53EA0C7E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E0ECB-C58C-40A3-BF7C-D733411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5DCB0-7DB7-49C9-B0E8-66BB56A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458AE7-10A0-4995-8BF1-8E5EB426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55A6-ACAF-4FAC-A782-662C6D2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014E8-EF75-4EC0-B37C-0F5179B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5AA4EF-867A-4FF4-91EB-D63F374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7FB19-8793-4150-9150-67110E0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A162A-72E5-4080-B964-3DB9B13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3B41CB-97B9-4F59-A0C2-176C0D5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27992-6BF5-480E-BADF-6EFFA3D6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B093ED-6883-4DBC-B657-FABF3106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5E4718-534C-46AF-AD72-1ABEA6F9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F0020E-0E48-4744-8563-B184AC4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AFFFAB-3A2E-497E-B050-38ACD18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E778-C71C-49C7-9E00-FB57F16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F3C8D6-4735-4EB7-B29C-F13DF75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88355-1F43-4744-BF47-15F6EF33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36B0C-FFD7-4C7C-846F-D8D1619B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FEE785-1B45-44DE-9B9A-218F69C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E6FBB-55FC-4CBB-ADAE-F4837DC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BD555-B14E-49E7-BEB1-9BF6090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E95C9A-ACAA-43F6-90FE-696687A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CA19F1-6D41-4130-ABC7-D4C20F4B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C343F6-8BB9-45BE-B3ED-137153E9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383254-6C3E-4A6D-9CC4-8157A048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1BAA-EC09-41A1-A87E-D467B9E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B61272-CDF1-4CEE-9C75-2AC2281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32DD7D-CFEC-480B-A7F4-67AED608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485AC2-8CA3-472D-A0B6-6DEBD4DE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2D56B7-2DA0-4009-A1B7-895375A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620C3-143A-455B-9C67-F71742D8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EDBBDE-BAB2-4084-8DBE-771CD5E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0CADC0-E814-4FCE-A6AA-B820B9E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6D387-A285-40B4-AF4E-3057319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9FA830-0F87-4918-83D7-4991B1C5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1C3FD4-F646-4F17-BF4C-BA03AA27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C44-EAF8-4774-8003-465C00C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86BD-8684-4B3F-8647-28E2FC8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B9DE25-A392-4AB0-B182-D0909E47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66AF1D-A9E3-45DE-BACB-0B373D1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0EF62-260C-47F8-9E0B-27C9486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DE602D-D360-424A-82CE-0DA3488C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5687BB-480A-495C-92BB-BAF1F78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5740CF-F34F-4C33-8C7E-77B0338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479192-0DE8-4C6B-BD02-A65D48E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1F437-EFE8-46A8-8D4B-9D3E8CD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30D3CE-50EF-481C-9169-9798BBF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752244-8D07-4245-B528-72F411B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5CFC-171B-4987-A10E-4B1AF58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74D9AD-9DB7-43C3-AB73-14E35F13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E09D2E-9537-4550-ACF7-4B6380E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D6F040-98AA-4E7A-8CD4-7B7A5B0F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9D03EA-E0A3-4DC1-8A62-B7D13178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A590C3-CB49-4004-B42C-C851276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2B9462-9A5F-4FA8-A41A-2CCF400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584724-4A38-4F82-991A-00AD75C0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E73FF-E3CC-40C9-BFFF-FBF9662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E6BDCC-ED17-4286-BE35-033C8828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2E1E57-F136-4583-B669-3E4218F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8333-43CB-4EEB-8630-A0F6842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98E02-F44A-49DB-9D6B-FBA4D00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FCF5BA-5F79-453C-9871-C21FC8E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D7DF3E-E517-4ADC-9392-EDD517C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A8E032-FA2F-46EB-A761-4130E78C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83ED1-B1C0-4C04-8E74-1CC845DB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A5D4B0-C4E9-4007-8445-AA4CE661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A18394-769C-4919-8F6E-14EA9AEF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3469CE-287D-4FB2-8052-8BBC2A0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5D91E2-75AE-4BA9-B744-98A8841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0059EB-89F8-4EE0-9C51-298A494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8766-C11A-424E-BC8B-75F1A21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A25B9-1F0F-4038-AAE5-D9DF910A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F61BBE-2584-40DE-B404-B86B3BC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C2D262-5A85-42A4-BB6D-BDE0F3D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5C2603-8A03-4997-A01E-1EDF3C4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5D2D2C-9BD3-4798-BB1D-FA1DEBEF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D5C98F-2CE4-44A4-A6C3-C23F5541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514A3B-9A2F-4BC8-AD7E-D166ED8E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70DD1C-7CBF-4C86-B877-5EA87C3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7929DC-8FF1-49D5-A387-2329829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E62905-1853-4D56-9582-E4BA150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D863-93F6-4C9B-88BB-E4AAABE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6019D7-4B07-42D6-A9FE-13EC819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7A0DC7-8E10-4C65-AE5B-E97D98D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D5E485-6C63-4320-90AA-B004428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B99B01-317A-4FF1-9B69-A5B702E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61479F-492F-4EA5-85A4-382BE9D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3E8963-F546-4668-B52F-BA6565D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49222C-BE39-49CA-B257-ADA9D66E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3A6ECD-3AF0-4D97-8964-2DEB0308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BAE092-729B-42DD-8984-90526182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00A488-A1B1-4BA3-AD39-84368E7F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58B2-EBB3-48A1-9EF7-3729EEBA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4EAE8-39E6-4E92-8048-0242F37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B8C35C-0CDF-4E98-ABEA-8BFB193E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BD8EBD-9E4D-404B-BD9C-2E4ECFC1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B406E2-3572-4FD8-8619-0236A5C4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85E5FC-00DD-42CA-A3A2-5C39075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204555-29AD-4573-870B-4C6EB51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C68E0B-D9DD-49B9-B4C0-91E24BE7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A43024-5F81-4AB7-8E26-51140D4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B046AD-BF64-4028-BA54-83984D65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582F71-1FA5-4B91-ABDD-15DC8C1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2AAF-36B1-43A4-854E-3AC9A442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17FE52-4FD0-45AC-91AD-37397FD7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45457C-2FFB-4BF1-84D2-E8E18274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7DBCF6-EF5E-4E00-B83E-53AB09B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4C10E6-A2A3-4B5B-AE43-1222805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1EF5D9-39CF-481F-BE03-A5CE6AE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E83864-3B90-4586-892A-0821D68B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BAFC86-F0A8-4C51-94DF-E36A4D9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FEDA4D-372C-4149-9C56-9FD1B97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48D78C-C647-478D-B47B-6485553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3EB921-FF1C-4EC8-AFAF-3C991EC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CF6B-47F5-44A2-97BB-6176914B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2FDC14-0A5C-4886-9071-9EF7354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3EE2AC-3EE1-4B0E-9B93-D214AE93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FB4346-EFE9-489D-8FE4-F69867B1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9FAF53-7D11-40A7-B4C3-2EA4D32A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EFD2C1-8322-4640-B0BF-604B34C8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19DE36-DEC4-4D2F-9D00-723D66CF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A89AEC-68E5-4F26-89A3-AF9C8360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4BFD7C-5607-4A6D-AA88-C02CC85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F4A12D-4D47-478C-BEF5-47F0B3D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03F093-4945-483A-8F9F-EF55BD3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B0F2-3E36-4357-9DBD-7B4B02E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B33167-B2CA-4BE4-B9D8-FF0F948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F1018B-305F-45A6-99FE-FA072FB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7717D8-6E3D-4842-81CE-B9713C7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5E1937-1ADC-4E52-B1D8-E74BF3AE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6308C7-35C5-4975-8945-B31C20CB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083211-A92C-42E4-AAE0-48A8BCFB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CE9F0B-F30C-42A9-B38D-53010AF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744814-6053-4085-94CA-9F60F28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553473-731D-4AE1-BBB8-6F9A89C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2762F0-7B0C-4878-ABA3-22C8ECA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7B9B-D8D1-4C48-ACF8-3B7E69C2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75B523-F9CB-4AF5-8B29-EDF535D5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C6093E-2E70-4302-94C0-58FD440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9EBC73-4E9E-403F-8CF0-72520AF7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3F9875-2AE6-4879-86C9-A97B332F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D39C48-3008-4013-A47E-9F22AFD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3E0C08-F0BB-45FD-9DBB-A46B91B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EE868-320A-4F88-B05D-2575D601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AEF1F6-6FE9-4E8B-A18C-3E1557F9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576CB1-02D3-455E-9F1D-1C24C39E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6111EF-677C-439B-B5AA-5389B8B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AD8-40DF-425C-A503-5F4F054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79F3-5596-4B41-B499-F6CC4DFE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3301D9-5D35-414B-B5E5-45D8A684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3E2C94-D13F-4483-B12E-59C8455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56987A-5EE6-41F0-8C7E-2B275A02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3ABD97-C47B-4237-A306-378374A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BB7112-B3E6-4A81-BCEA-CCF372E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94F2DE-4C59-463D-9475-AE84522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EE6CC8-F92A-4A39-830F-D0A8313B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DEBD14-E7E3-46CF-9C3B-B3873867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6E87C4-ED49-4F62-892A-351677E3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B0DA5C-F76F-4CB9-AE12-DC512410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534B-BAC9-4430-9D05-476B414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5DFA2E-F38C-4462-AE98-0896B605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F1B8EF-CA98-4EC0-BF2C-4AA646F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610EC7-9EE2-45C0-832D-2CCD04C6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70DAF1-3530-4E46-93BF-161FE47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A32BDC-2FB0-407F-8136-AA5A705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392986-9C23-43E9-BBAA-CE94D8F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3BF5FD-F716-46E8-B45D-89083E3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87F65D-800F-4D73-9CE7-602764B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E4E695-D451-43CB-9D76-9752BD3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F5D02B-2A4A-4E5B-AA9C-7AFA8665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4606-DAB6-4D3A-B0DB-EA82737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809435-E4E6-48BE-9AD1-8C08F159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1E1C0D-C089-4608-847F-2902FA9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CF4CBD-ACD0-4343-B68C-532DABA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239141-1777-4909-B725-EC7EF446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F41940-CDD9-414E-881C-921FFEE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B5AA5B-D1AD-43E3-B5B4-FBFC7CA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4B2940-3A72-4590-A3BC-3C344904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631217-70CD-4208-A1A2-602520D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5825E0-121A-453E-A7D5-51C3596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35ECFC-CDDE-475B-B948-6B389F2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6973-ADDC-42CB-9420-C3B76F3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E2DBE4-DFB1-49FD-A9E1-7242BE3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46DDA1-E600-4AE8-84B5-45F023AF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8F7C88-C170-476B-A09C-27530CA6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2FBF0F-67DE-4E5B-8287-F5BD10BB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714264-1FA4-41D7-8FFF-8C4C742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919617-5055-4BE4-A2EC-15E5046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39DF5D-BB0D-4C50-AC35-EBD24AAD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0B16D6-1E09-4D8F-AFD0-DFB68457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E0DD7B-61A0-45C5-BA24-DA1AEFF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446774-7DA0-4EC5-87BB-DE7DD08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6F9D-9613-4C43-9EE0-C62D7EF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2010FA-EA91-4E3A-8B5C-531E81A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7EF2F6-7A40-42CD-AC02-9D75B96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9274CE-5F8C-4CC3-923C-0762493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26257E-001D-4A02-BBA6-7981590E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1F7D9F-4629-4A84-B408-6783E8C4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13C1E8-C5C3-4F63-B5F8-2BEF005C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5F77E0-652F-42D6-B1B3-B2FB71FB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6B63D2-97DD-4BEA-AC87-A96227E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06318D-2FE4-4246-B650-A144F451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74204A-E366-4BB2-9F26-42698D1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E4EC-F008-4442-918B-90FD98C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972EFD-335A-4E82-BC30-F2A5311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6F949C-3661-4D7D-BAF6-91E8E10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D0E6D4-09E1-4346-B2C2-065B2B3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B407B0-3888-497B-8651-5738AD8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C283CA-37B6-4585-ABFB-30FA00F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3729A0-7CB4-4E23-B7D4-01D6D2CA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B8A86D-903D-4D74-8B58-A17F530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0745B7-36C1-40E0-8C53-FC8EEA4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1853D2-79B0-4E3F-A8F7-E4AFE14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FDB7CB-D641-4D77-92D5-7DD9204A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3C53-73D9-4600-9998-3C5BBD1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1C838D-C1F0-4191-81B9-96539DD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CE1D17-9D31-4D6E-A4CD-39F9139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A0D859-F099-41F9-B199-85C20CB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1041AE-3D8D-458B-9564-04509B7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2D5EC9-D153-4FC2-B9FC-E2DC731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69F6BA-331A-4183-A52D-F080EEF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87E217-18D9-43E5-9E9B-BB46B5B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D18207-D0F7-4523-B3B4-BF426326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78D9A3-F66B-4746-B08A-D79AAF3E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E64207-5A96-41E1-BEB6-DF040E65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E235-F66B-432E-879F-84331074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4BA7AD-199F-4A7B-9952-128D824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15C9AC-237A-4029-A434-3CBF11B8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897BAD-134D-49E8-A9A2-88DDF00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1F1F67-A1E7-48AF-9131-6512CCFF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AE3B0D-6C5B-4D25-8101-98A370EE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FFAE11-FB59-4F12-963E-0FCB3A7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F9E0B8-E375-439C-85B7-710758C2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B3FDDC-402A-4CE3-B0D7-8F995CE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8E403D-74B1-4B44-8D28-3315FF79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EFE556-52C6-43EB-8265-52F7A978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5078-2FE8-4359-A14B-C19CDF46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05AE64-2AAA-449D-BAF6-598A2B7C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F4B5D5-31F1-4A9C-A6AD-31FEA823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8F8B5D-728E-49C3-99ED-C6FB0781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3038EE-25FD-48D5-A2E6-F8E4447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899975-CA4C-4CA9-B788-23BE54C4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C0A98B-066C-46D7-941C-5E81EE92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1B2614-3470-414A-8821-2F8BC679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F904F8-9B94-4212-9B62-311A9C0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E84E15-1D33-49E3-BFC0-92A755C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8C5A28-4242-4E88-A080-8403409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C4D2-E7F3-4BE0-994B-6789B02A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0C06FA-CBA7-4DA2-ABD2-02DD370F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04677C-C4E2-4557-A1B8-35A6142E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A8FA1C-DF6C-48D7-8F31-B9E0DB2D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5641B6-6534-4C18-AFB0-28B9B275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C3FA09-160E-4AEA-829D-2DD1A0D4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FD2848-1A63-460B-BBB4-7A90A1AD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5A2145-DB27-4DBB-BB1D-5CAFC16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B5065D-DBF2-4D74-9BEC-B441883E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F6E1D6-F8FD-42E7-A73C-D4C9A9F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58C763-56C9-4132-93D2-223703F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276-240D-4AA9-9308-093A2EE6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50B0-C741-4CD3-B6E5-9876603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C2845B-6214-42F6-9A4B-ED85AB8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D883FE-572A-414F-A15E-9504BED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B21E82-3127-462B-9760-65D35AD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E51A0D-763D-49E6-A7FF-2E70582C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75ACF2-EDC5-4D25-85E8-8F7F6907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BFBD-F733-4A16-8598-62314048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4410-054D-4FAC-85DF-5895EE5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63157-3B52-40C4-8887-CAD89B3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36FE-9F4A-4C11-B6E5-B6DE0946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FC62-865F-4E8C-8709-91C1546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8F99-855C-48AA-9343-05D5793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668C-E0FC-4994-B57B-F6139A9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B5BF-4D41-49A4-9A9D-CBAF6D17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53E6-D578-48ED-AA66-C18603EF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168-77A6-47C0-AB84-7E159DE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8AA8-6664-42E8-B557-4A78BE22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391E-ACF6-4248-96B7-B3A2AD2E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5B06-5DAD-428F-ADBC-5CAC096D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CC69-2642-4D82-BA67-54F95AEA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EE26-6A0A-4A47-B466-655A0638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E119-21F9-4B80-A56A-317E2EC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1792-800F-4180-A57E-1116DCA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EF2F-BE26-40DC-BE12-4C02A9A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B9A3-3637-4545-BC08-F7EE491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A1AA-803B-4867-A2A0-F56268D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A50-E0E8-443B-9F44-C2A841D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7340-B3E3-4353-857E-D43611F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4A9E-7469-4CAE-90CD-CB2EF780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64CE-F124-4553-AD24-CC226717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0EE1-33CB-4D22-B560-6696070E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6B0F-9A05-445E-8B59-A42B16F3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4E5F-1C4F-4A7B-9069-15B033E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A545-C430-43AD-80BE-B8E9F6DC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74BA-6886-46BF-948E-EB9E547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73194-04A3-44AE-85C6-0A6B8C5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EC943-F6AF-4220-9ABC-02A89BD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D93-24F8-4971-BFB8-241F55B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E0780-98E7-45DD-8D22-35AC0A3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68BE5-4846-4BA5-A8F5-8A8C7A1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D8732-18C2-4A7B-B51C-08B5013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4D8B-5F5B-47FF-8DC6-BD276007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1DD1F-FF10-4593-BC78-A6C4E374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79ED-605A-4255-9016-ECC0E8F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CFBD-58A5-4842-9AFC-80095F8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AB056-AA95-4947-B6F0-4D3C592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F51B1-62C8-4FA7-8F08-9CC22F5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19D54-5DA3-4DE6-86A0-D30B10D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B09-FC87-4D61-80FD-E096371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22CC-9FEF-452B-80FE-C1EA70C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F1EBF-15D1-4CF8-A1F4-B2AA989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0348-B6AD-4EA6-B7D3-6053E95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5298-65B1-4674-9C44-64EE4FE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B071-DF33-4FCF-9460-7D0895A3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BD4B-60F8-4037-92DC-915B02CB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C69A-08E3-4174-8E35-DA36BEDD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4EC6-0EC5-4222-81E2-3C303A06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F4B9F-8B7E-4C04-8D4A-749CD6E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80F2-5DFF-4673-9242-2B4F7D4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0EB-26AB-4843-A86D-F0CAB67DE6E2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379-C672-46EF-8A5D-95A84D8C9E1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67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A381-AAE4-4C2E-AF13-C0FBFA1647F9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1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513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90B-C40B-4303-85E4-59F48AF2AABC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EDF-5911-493F-9828-ECAC298CD017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00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772-CD39-4C7B-BBEA-3A3565A72F14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4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45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B81F-409B-4731-AC31-66A85B85F6B1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AEB5-8ACA-4030-A1EF-AD1D1D25F418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573-7EAA-475D-A2BD-3FDE3DA0F36D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FA95-F1CE-4791-B027-1F2EF7DAA2C7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8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2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3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4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5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6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55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56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57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D72-BBCF-43A7-BD12-961A4576003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CC69-7F5C-4845-8434-799090AA24E5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sldNum" idx="5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C88C-5524-4060-802F-B8E8A4045285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ftr" idx="6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930C-788B-455F-88F2-E02C9B0CE550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9004-F892-46AB-A58A-C957F3643415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D1C-4075-4A96-BBE8-6A2B21746343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521-7893-4ADD-8867-245F3FFF72D0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7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7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7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D13F-2473-49D1-87DD-D81DE719D69D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7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7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7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91E-88A9-4BC4-A944-4ACE413A98D4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7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0D8-1F91-428B-AAC0-F36BD0C15A64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23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FF8-B89C-48F7-AE5E-2BA6F8B0537B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8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28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8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28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8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8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8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4BE-0F0D-4DEC-B64E-A381D839A777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08AA-648D-4752-A0B7-CF1EAE92FAD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3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AD5-6006-4761-8396-CF3EA6E4B4A0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7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F188-B800-44FB-88EB-0E3BA14BA43C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9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9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9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9629-0947-4757-83EB-BFC5F9168F01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460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09C-3570-4E36-AFA0-9FA0B090C399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A5EB-3459-4FB9-8D37-370788D99F0F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10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10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10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087E-B309-4408-8CF6-6C7834B62221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58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8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grpSp>
          <p:nvGrpSpPr>
            <p:cNvPr id="158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59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pic>
          <p:nvPicPr>
            <p:cNvPr id="159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BBAC-4190-4A56-A8AC-B2F46BA08030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63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3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63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4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19AB-7E1F-4DE0-97AC-8C632ACEFD8C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6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6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977C-B209-400C-9625-9CD60E986AAD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4FA-9697-4A8D-B46E-98736A21A5FF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9BF-14C6-4E06-8AE2-40587C05175A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77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7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77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7AD-A3EB-4FD1-A96E-83BCDFBD86E4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AE19-5B61-4A22-B457-5487CF44D6B8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86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6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86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6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C96-E3FA-4555-BB73-E80786C34FDF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B3A6-58CB-4982-A59D-915129F74ADE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9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9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3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024-71A2-47EC-9B53-359F91EF2D5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802-CC72-4712-807D-F497DA6FDDD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28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29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496-9982-41A3-A945-6C53E9CA217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0A3-3EE4-4A23-A5B9-21B76E8FAF88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ECOLOGICAL PYRAM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e3b30"/>
                </a:solidFill>
                <a:latin typeface="Franklin Gothic Book"/>
              </a:rPr>
              <a:t>Shows the amount of energy input to each trophic level in a given area of an ecosystem over an extended perio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e3b30"/>
                </a:solidFill>
                <a:latin typeface="Franklin Gothic Book"/>
              </a:rPr>
              <a:t>Why will this type of pyramid never be inverted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Pyramid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4" name="Text Box 4"/>
          <p:cNvSpPr/>
          <p:nvPr/>
        </p:nvSpPr>
        <p:spPr>
          <a:xfrm>
            <a:off x="2895480" y="6400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9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5" name="Text Box 5"/>
          <p:cNvSpPr/>
          <p:nvPr/>
        </p:nvSpPr>
        <p:spPr>
          <a:xfrm>
            <a:off x="142920" y="1450800"/>
            <a:ext cx="298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nature, ecological efficiency varies from 5% to 20% energy available between successive trophic levels (95% to 80% loss). About 10% efficiency is a general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36" name="Picture 6" descr="M04_19"/>
          <p:cNvPicPr/>
          <p:nvPr/>
        </p:nvPicPr>
        <p:blipFill>
          <a:blip r:embed="rId1"/>
          <a:stretch/>
        </p:blipFill>
        <p:spPr>
          <a:xfrm>
            <a:off x="3048120" y="1316160"/>
            <a:ext cx="5867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 Energy Pyramid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8" name="Text Box 5"/>
          <p:cNvSpPr/>
          <p:nvPr/>
        </p:nvSpPr>
        <p:spPr>
          <a:xfrm>
            <a:off x="990720" y="14508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nual pyramid of energy flow (in kilocalories per square meter per year) for an aquatic ecosystem in Silver Springs, F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39" name="Picture 7" descr="M04_20a"/>
          <p:cNvPicPr/>
          <p:nvPr/>
        </p:nvPicPr>
        <p:blipFill>
          <a:blip r:embed="rId1"/>
          <a:stretch/>
        </p:blipFill>
        <p:spPr>
          <a:xfrm>
            <a:off x="228600" y="2819520"/>
            <a:ext cx="8153280" cy="2611440"/>
          </a:xfrm>
          <a:prstGeom prst="rect">
            <a:avLst/>
          </a:prstGeom>
          <a:ln w="0">
            <a:noFill/>
          </a:ln>
        </p:spPr>
      </p:pic>
      <p:sp>
        <p:nvSpPr>
          <p:cNvPr id="1940" name="Text Box 8"/>
          <p:cNvSpPr/>
          <p:nvPr/>
        </p:nvSpPr>
        <p:spPr>
          <a:xfrm>
            <a:off x="3352680" y="49528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ote: More individuals can be supported at lower trophic levels. Less energy is los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the one-way flow of energy, matter is recycled within and between eco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cycles are the water cycle, Nutrient Cycle, Carbon Cycle, nitrogen cycle and phosphorus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4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ecological pyramid is a diagram that shows the relationship amounts of energy or matter contained within each trophic level in a food web or food cha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nly 10% of the energy available within one trophic level is transferred to organisms at the next trophic leve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"/>
              </a:rPr>
              <a:t>Biomass pyramids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show the total amount of living tissue available at each trophic level.  This shows the amount of tissue available for the next trophic leve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umbers pyramid shows the number of species at each trophic leve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cause each trophic level harvests only about one tenth of the energy from the level below, it can support only about o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the amount of living tissue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nergy flow through an ecosystem in one direction, from the sun or inorganic compounds to autotrophs (producers) and then to various heterotrophs (consumers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Food Chain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are a series of steps in which organisms transfer energy by eating or being eate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Food web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show the complex interactions within an ecosystem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step in a food chain or web is called a trophic level.  Producers make up the first step, consumers make up the higher level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Food chains and food webs do not give any information about the numbers of organisms involved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This information can be shown through ecological pyram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424456"/>
                </a:solidFill>
                <a:latin typeface="Trebuchet MS"/>
              </a:rPr>
              <a:t>PYRAMID OF NUMB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Shows the number of organisms at each trophic level per unit area of an eco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yramid of Number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0" name="Text Box 5"/>
          <p:cNvSpPr/>
          <p:nvPr/>
        </p:nvSpPr>
        <p:spPr>
          <a:xfrm>
            <a:off x="838080" y="1447920"/>
            <a:ext cx="7696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ramid of numbers displays the number of individual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each leve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1" name="Rectangle 10"/>
          <p:cNvSpPr/>
          <p:nvPr/>
        </p:nvSpPr>
        <p:spPr>
          <a:xfrm>
            <a:off x="1981080" y="1143000"/>
            <a:ext cx="4724640" cy="228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22" name="Picture 12" descr="image: pyramid of numbers showing grass, vole, barn owl"/>
          <p:cNvPicPr/>
          <p:nvPr/>
        </p:nvPicPr>
        <p:blipFill>
          <a:blip r:embed="rId1"/>
          <a:stretch/>
        </p:blipFill>
        <p:spPr>
          <a:xfrm>
            <a:off x="2743200" y="2438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3" name="Oval 18"/>
          <p:cNvSpPr/>
          <p:nvPr/>
        </p:nvSpPr>
        <p:spPr>
          <a:xfrm>
            <a:off x="4800600" y="2514600"/>
            <a:ext cx="8380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 ow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4" name="Oval 19"/>
          <p:cNvSpPr/>
          <p:nvPr/>
        </p:nvSpPr>
        <p:spPr>
          <a:xfrm>
            <a:off x="5029200" y="3429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5 vo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5" name="Oval 20"/>
          <p:cNvSpPr/>
          <p:nvPr/>
        </p:nvSpPr>
        <p:spPr>
          <a:xfrm>
            <a:off x="5638680" y="4191120"/>
            <a:ext cx="15242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ass pla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he total amount of matter present in organisms of an ecosystem at each trophic level is biomas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iomass is preferred to the use of numbers of organisms because individual organisms can vary in size.  It is the total mass not the size that is import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yramid of biomass records the total dry organic matter of organisms at each trophic level in a given area of an ecosyste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 Pyramid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29" name="Picture 9" descr="biomass_pyramid"/>
          <p:cNvPicPr/>
          <p:nvPr/>
        </p:nvPicPr>
        <p:blipFill>
          <a:blip r:embed="rId1"/>
          <a:stretch/>
        </p:blipFill>
        <p:spPr>
          <a:xfrm>
            <a:off x="0" y="2133720"/>
            <a:ext cx="8937720" cy="4297320"/>
          </a:xfrm>
          <a:prstGeom prst="rect">
            <a:avLst/>
          </a:prstGeom>
          <a:ln w="0">
            <a:noFill/>
          </a:ln>
        </p:spPr>
      </p:pic>
      <p:sp>
        <p:nvSpPr>
          <p:cNvPr id="1930" name="Text Box 11"/>
          <p:cNvSpPr/>
          <p:nvPr/>
        </p:nvSpPr>
        <p:spPr>
          <a:xfrm>
            <a:off x="304920" y="1295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isplays the biomass at each trophic level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3:46:28Z</dcterms:created>
  <dc:creator>Lyn Clarkson</dc:creator>
  <dc:description/>
  <dc:language>en-US</dc:language>
  <cp:lastModifiedBy>Lyn Clarkson</cp:lastModifiedBy>
  <dcterms:modified xsi:type="dcterms:W3CDTF">2007-10-26T01:23:01Z</dcterms:modified>
  <cp:revision>11</cp:revision>
  <dc:subject/>
  <dc:title>ECOLOGICAL PYRAMIDS</dc:title>
</cp:coreProperties>
</file>